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50969-5F2D-4152-82E0-15FCB5572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0B7E2-2E87-4355-8E33-265A26C31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C5B97-6861-4DE0-99E9-B9E91BCE5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19882-F929-4332-BF48-524568410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EAE52F-B15C-4B24-B4A2-0D7CB1E3DB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13E4B-260A-4E24-B591-BAA260BC4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F34F4-6067-4C06-B028-87B1109A1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4C5DE-0EC5-4724-832F-93E5CC876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BE64E-6421-410A-8A2F-0FE8815CD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1F0D8-55D7-474D-8DB8-9E68F85AD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3B212-EDFF-4806-939E-DC32998D9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80F2F-F1F6-469D-AD84-A290B1373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6FBAF-92EB-45B3-9725-2A104BFC9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47C3E-67A5-418D-9821-69C4281A8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55FD2-F253-4B90-95A5-25F04DBB7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338F70-1B45-48E1-B329-3E7CEC11F6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C7799-2D12-456E-BFF8-05F399670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231C1-8299-4DD8-B1B1-1FE406279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2C4B0-6C02-4196-83B5-189A1CF33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3460F-CAC7-4896-A6B2-3DAB262BD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74C96-EC75-4DE0-8665-D67A51B63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8B9AC-E2F6-4239-966E-50244CCBC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F47F5-724D-4A72-B7AB-20E669C73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CA738-4C87-4DEA-B4E0-FF4D95B5C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5B94-C345-44B1-857A-FD8B3A271CCF}" type="slidenum">
              <a:rPr b="0" lang="tr-TR"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3C7C4-37CF-4BD2-9EEE-E26B0B200F70}" type="slidenum">
              <a:rPr b="0" lang="tr-TR"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CEIT 253</a:t>
            </a:r>
            <a:endParaRPr b="0" lang="en-US" sz="5400" spc="-1" strike="noStrike">
              <a:solidFill>
                <a:srgbClr val="ccecff"/>
              </a:solidFill>
              <a:latin typeface="Arial"/>
            </a:endParaRPr>
          </a:p>
        </p:txBody>
      </p:sp>
      <p:sp>
        <p:nvSpPr>
          <p:cNvPr id="157" name="PlaceHolder 2"/>
          <p:cNvSpPr>
            <a:spLocks noGrp="1"/>
          </p:cNvSpPr>
          <p:nvPr>
            <p:ph type="subTitle"/>
          </p:nvPr>
        </p:nvSpPr>
        <p:spPr>
          <a:xfrm>
            <a:off x="1447920" y="2895120"/>
            <a:ext cx="640080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BİLGİSAYAR DONANIM</a:t>
            </a:r>
            <a:endParaRPr b="0" lang="en-US" sz="3200" spc="-1" strike="noStrike">
              <a:solidFill>
                <a:srgbClr val="ffffff"/>
              </a:solidFill>
              <a:latin typeface="Verdana"/>
            </a:endParaRPr>
          </a:p>
        </p:txBody>
      </p:sp>
      <p:sp>
        <p:nvSpPr>
          <p:cNvPr id="158" name="Text Box 4"/>
          <p:cNvSpPr/>
          <p:nvPr/>
        </p:nvSpPr>
        <p:spPr>
          <a:xfrm>
            <a:off x="1447920" y="4419720"/>
            <a:ext cx="6705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OSYA SİSTEMLERİ</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6" descr=""/>
          <p:cNvPicPr/>
          <p:nvPr/>
        </p:nvPicPr>
        <p:blipFill>
          <a:blip r:embed="rId1"/>
          <a:stretch/>
        </p:blipFill>
        <p:spPr>
          <a:xfrm>
            <a:off x="914400" y="934920"/>
            <a:ext cx="6705720" cy="3651480"/>
          </a:xfrm>
          <a:prstGeom prst="rect">
            <a:avLst/>
          </a:prstGeom>
          <a:ln w="0">
            <a:noFill/>
          </a:ln>
        </p:spPr>
      </p:pic>
      <p:sp>
        <p:nvSpPr>
          <p:cNvPr id="177" name="Text Box 7"/>
          <p:cNvSpPr/>
          <p:nvPr/>
        </p:nvSpPr>
        <p:spPr>
          <a:xfrm>
            <a:off x="304920" y="4708440"/>
            <a:ext cx="8534160" cy="19983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ffffff"/>
                </a:solidFill>
                <a:latin typeface="Verdana"/>
              </a:rPr>
              <a:t>Dosya sistemleri bitişik olarak başlar fakat yeni dosya yükleme ve silme faaliyetleri nedeniyle dosyalar bölünür Dosyalar ve parçaları yerel diskin her yerine dağılır bu da diskin gecikmeli ve düşük performansla çalışmasına neden olur </a:t>
            </a:r>
            <a:endParaRPr b="0" lang="en-US" sz="2500" spc="-1" strike="noStrike">
              <a:solidFill>
                <a:srgbClr val="ffffff"/>
              </a:solidFill>
              <a:latin typeface="Verdana"/>
            </a:endParaRPr>
          </a:p>
        </p:txBody>
      </p:sp>
      <p:sp>
        <p:nvSpPr>
          <p:cNvPr id="178" name="Text Box 8"/>
          <p:cNvSpPr/>
          <p:nvPr/>
        </p:nvSpPr>
        <p:spPr>
          <a:xfrm>
            <a:off x="228600" y="152280"/>
            <a:ext cx="66294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Verdana"/>
              </a:rPr>
              <a:t>Disk Birleştirme (Defragment)</a:t>
            </a:r>
            <a:endParaRPr b="0" lang="en-US"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6"/>
          <p:cNvSpPr/>
          <p:nvPr/>
        </p:nvSpPr>
        <p:spPr>
          <a:xfrm>
            <a:off x="152280" y="3809880"/>
            <a:ext cx="8839440" cy="285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eçmişinizi görmek istiyorsanız, bugün ki şartlarınıza bakın,</a:t>
            </a:r>
            <a:endParaRPr b="0" lang="en-US" sz="3000" spc="-1" strike="noStrike">
              <a:solidFill>
                <a:srgbClr val="ffffff"/>
              </a:solidFill>
              <a:latin typeface="Verdana"/>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Eğer geleceğinizi görmek istiyorsanız bugün yaptıklarınıza bakın.</a:t>
            </a:r>
            <a:endParaRPr b="0" lang="en-US" sz="3000" spc="-1" strike="noStrike">
              <a:solidFill>
                <a:srgbClr val="ffffff"/>
              </a:solidFill>
              <a:latin typeface="Verdana"/>
            </a:endParaRPr>
          </a:p>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Çin atasözü</a:t>
            </a:r>
            <a:endParaRPr b="0" lang="en-US" sz="3000" spc="-1" strike="noStrike">
              <a:solidFill>
                <a:srgbClr val="ffffff"/>
              </a:solidFill>
              <a:latin typeface="Verdana"/>
            </a:endParaRPr>
          </a:p>
        </p:txBody>
      </p:sp>
      <p:pic>
        <p:nvPicPr>
          <p:cNvPr id="180" name="Picture 7" descr="egitim_"/>
          <p:cNvPicPr/>
          <p:nvPr/>
        </p:nvPicPr>
        <p:blipFill>
          <a:blip r:embed="rId1"/>
          <a:stretch/>
        </p:blipFill>
        <p:spPr>
          <a:xfrm>
            <a:off x="2819520" y="152280"/>
            <a:ext cx="3209760" cy="357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4"/>
          <p:cNvSpPr/>
          <p:nvPr/>
        </p:nvSpPr>
        <p:spPr>
          <a:xfrm>
            <a:off x="152280" y="152280"/>
            <a:ext cx="6705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Arial"/>
              </a:rPr>
              <a:t>DOSYA SİSTEMLERİ</a:t>
            </a:r>
            <a:endParaRPr b="0" lang="en-US" sz="2600" spc="-1" strike="noStrike">
              <a:solidFill>
                <a:srgbClr val="ffffff"/>
              </a:solidFill>
              <a:latin typeface="Verdana"/>
            </a:endParaRPr>
          </a:p>
        </p:txBody>
      </p:sp>
      <p:sp>
        <p:nvSpPr>
          <p:cNvPr id="160" name="Text Box 6"/>
          <p:cNvSpPr/>
          <p:nvPr/>
        </p:nvSpPr>
        <p:spPr>
          <a:xfrm>
            <a:off x="533520" y="2666880"/>
            <a:ext cx="8305560" cy="779760"/>
          </a:xfrm>
          <a:prstGeom prst="rect">
            <a:avLst/>
          </a:prstGeom>
          <a:noFill/>
          <a:ln w="0">
            <a:noFill/>
          </a:ln>
        </p:spPr>
        <p:style>
          <a:lnRef idx="0"/>
          <a:fillRef idx="0"/>
          <a:effectRef idx="0"/>
          <a:fontRef idx="minor"/>
        </p:style>
        <p:txBody>
          <a:bodyPr lIns="90000" rIns="90000" tIns="46800" bIns="46800" anchor="t">
            <a:spAutoFit/>
          </a:bodyPr>
          <a:p>
            <a:pPr algn="ctr">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ffff66"/>
                </a:solidFill>
                <a:latin typeface="Verdana"/>
              </a:rPr>
              <a:t>CLUSTER ?</a:t>
            </a:r>
            <a:endParaRPr b="0" lang="en-US" sz="4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52280" y="152280"/>
            <a:ext cx="6705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00"/>
                </a:solidFill>
                <a:latin typeface="Verdana"/>
              </a:rPr>
              <a:t>DOSYA SİSTEMLERİ</a:t>
            </a:r>
            <a:endParaRPr b="0" lang="en-US" sz="2600" spc="-1" strike="noStrike">
              <a:solidFill>
                <a:srgbClr val="ffffff"/>
              </a:solidFill>
              <a:latin typeface="Verdana"/>
            </a:endParaRPr>
          </a:p>
        </p:txBody>
      </p:sp>
      <p:sp>
        <p:nvSpPr>
          <p:cNvPr id="162" name="Text Box 3"/>
          <p:cNvSpPr/>
          <p:nvPr/>
        </p:nvSpPr>
        <p:spPr>
          <a:xfrm>
            <a:off x="152280" y="762120"/>
            <a:ext cx="89917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Tüm dosya sistemlerinde farklı bir cluster boyu vardır. Sabit diski(harddisc) verimli kullanabilmek için uygun bir dosya sistemi seçmek önemlidi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Cluster bir diskin bir dosya için ayırması gereken minimum paket boyudur. Yani sabit diskin en küçük birimidir. </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Cluster boyu ne kadar küçük tutulursa, küçük dosyalarda tutulan yer de o kadar küçük olacak, böylece gereksiz yer kaybı önlenmiş olacaktı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152280" y="152280"/>
            <a:ext cx="6705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Verdana"/>
              </a:rPr>
              <a:t>DOSYA SİSTEMLERİ</a:t>
            </a:r>
            <a:endParaRPr b="0" lang="en-US" sz="2600" spc="-1" strike="noStrike">
              <a:solidFill>
                <a:srgbClr val="ffffff"/>
              </a:solidFill>
              <a:latin typeface="Verdana"/>
            </a:endParaRPr>
          </a:p>
        </p:txBody>
      </p:sp>
      <p:sp>
        <p:nvSpPr>
          <p:cNvPr id="164" name="Text Box 3"/>
          <p:cNvSpPr/>
          <p:nvPr/>
        </p:nvSpPr>
        <p:spPr>
          <a:xfrm>
            <a:off x="152280" y="762120"/>
            <a:ext cx="8991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Örnek olarak, cluster boyu 64K olan bir diske 2K’lık dosya için harcanan yer 64K olacaktı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Yani, 64K’dan küçük her dosya için zorunlu olarak 64K yer ayrılacaktır.</a:t>
            </a:r>
            <a:endParaRPr b="0" lang="en-US" sz="2400" spc="-1" strike="noStrike">
              <a:solidFill>
                <a:srgbClr val="ffffff"/>
              </a:solidFill>
              <a:latin typeface="Verdana"/>
            </a:endParaRPr>
          </a:p>
        </p:txBody>
      </p:sp>
      <p:pic>
        <p:nvPicPr>
          <p:cNvPr id="165" name="Picture 4" descr="Untitled"/>
          <p:cNvPicPr/>
          <p:nvPr/>
        </p:nvPicPr>
        <p:blipFill>
          <a:blip r:embed="rId1"/>
          <a:stretch/>
        </p:blipFill>
        <p:spPr>
          <a:xfrm>
            <a:off x="838080" y="3429000"/>
            <a:ext cx="7543800" cy="287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152280" y="152280"/>
            <a:ext cx="6705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Verdana"/>
              </a:rPr>
              <a:t>FAT (File Allocation Table)</a:t>
            </a:r>
            <a:endParaRPr b="0" lang="en-US" sz="2600" spc="-1" strike="noStrike">
              <a:solidFill>
                <a:srgbClr val="ffffff"/>
              </a:solidFill>
              <a:latin typeface="Verdana"/>
            </a:endParaRPr>
          </a:p>
        </p:txBody>
      </p:sp>
      <p:sp>
        <p:nvSpPr>
          <p:cNvPr id="167" name="Text Box 5"/>
          <p:cNvSpPr/>
          <p:nvPr/>
        </p:nvSpPr>
        <p:spPr>
          <a:xfrm>
            <a:off x="152280" y="954000"/>
            <a:ext cx="876312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Verdana"/>
              </a:rPr>
              <a:t>FAT 16;</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Verdana"/>
              </a:rPr>
              <a:t>Avantajları:</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MsDos, Unix ve Windows98’e kadar kullanılabili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Dosya kurtarabilen bir çok başarılı program mevcut</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256 MB’tan küçük partition’lar için veriye ulaşım çok hızlıdı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Verdana"/>
              </a:rPr>
              <a:t>Dezavantajları:</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En fazla 65536 dosya olabili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Bir dosya en fazla 4 GB boyutunda olabili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Cluster boyutu büyük olduğu için yer kaybı fazladı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Veri güvenliği yoktu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52280" y="152280"/>
            <a:ext cx="6705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Verdana"/>
              </a:rPr>
              <a:t>FAT (File Allocation Table)</a:t>
            </a:r>
            <a:endParaRPr b="0" lang="en-US" sz="2600" spc="-1" strike="noStrike">
              <a:solidFill>
                <a:srgbClr val="ffffff"/>
              </a:solidFill>
              <a:latin typeface="Verdana"/>
            </a:endParaRPr>
          </a:p>
        </p:txBody>
      </p:sp>
      <p:sp>
        <p:nvSpPr>
          <p:cNvPr id="169" name="Text Box 3"/>
          <p:cNvSpPr/>
          <p:nvPr/>
        </p:nvSpPr>
        <p:spPr>
          <a:xfrm>
            <a:off x="152280" y="954000"/>
            <a:ext cx="876312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Verdana"/>
              </a:rPr>
              <a:t>FAT 32;</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Verdana"/>
              </a:rPr>
              <a:t>Avantajları:</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Windows 98, 2000, XP, Vista, 7’de kullanılı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Cluster boyutu küçük olduğundan yer kaybı düşüktü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Düşük hızlı sabit disklerde performansı daha yüksekti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Verdana"/>
              </a:rPr>
              <a:t>Dezavantajları:</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2 TB’a kadar formatlayabili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Bir dosya en fazla 4 GB boyutunda olabili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Veri güvenliği yoktu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Diskteki dağınıklık arttıkça performansı düşe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152280" y="152280"/>
            <a:ext cx="88394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66"/>
                </a:solidFill>
                <a:latin typeface="Verdana"/>
              </a:rPr>
              <a:t>NTFS; (New Technology File System)</a:t>
            </a:r>
            <a:endParaRPr b="0" lang="en-US" sz="3000" spc="-1" strike="noStrike">
              <a:solidFill>
                <a:srgbClr val="ffffff"/>
              </a:solidFill>
              <a:latin typeface="Verdana"/>
            </a:endParaRPr>
          </a:p>
        </p:txBody>
      </p:sp>
      <p:sp>
        <p:nvSpPr>
          <p:cNvPr id="171" name="Text Box 3"/>
          <p:cNvSpPr/>
          <p:nvPr/>
        </p:nvSpPr>
        <p:spPr>
          <a:xfrm>
            <a:off x="152280" y="1181160"/>
            <a:ext cx="87631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Verdana"/>
              </a:rPr>
              <a:t>Avantajları:</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256 TB’a kadar sabit diskleri formatlayabili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Maksimum dosya büyüklüğü 16 TB’tı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Yer kaybı düşüktü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Dosya boyutu ne kadar büyük olursa olsun, klasörlerde ne kadar çok dosya olursa olsun performans kaybı olmaz</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Otomatik veri kurtarma desteği vardı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Dosyaların parçalara bölünmesi minimum düzeydedir. Defrag gerektirmez</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152280" y="152280"/>
            <a:ext cx="88394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66"/>
                </a:solidFill>
                <a:latin typeface="Verdana"/>
              </a:rPr>
              <a:t>NTFS; (New Technology File System)</a:t>
            </a:r>
            <a:endParaRPr b="0" lang="en-US" sz="3000" spc="-1" strike="noStrike">
              <a:solidFill>
                <a:srgbClr val="ffffff"/>
              </a:solidFill>
              <a:latin typeface="Verdana"/>
            </a:endParaRPr>
          </a:p>
        </p:txBody>
      </p:sp>
      <p:sp>
        <p:nvSpPr>
          <p:cNvPr id="173" name="Text Box 3"/>
          <p:cNvSpPr/>
          <p:nvPr/>
        </p:nvSpPr>
        <p:spPr>
          <a:xfrm>
            <a:off x="152280" y="1192320"/>
            <a:ext cx="87631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Verdana"/>
              </a:rPr>
              <a:t>Dezavantajları:</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Windows 9x ve MsDos’ta çalışmaz.</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Küçük boyutlu sabit disklerdeki küçük boyutlu dosyalarda performans düşüktü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Disketler NTFS tipinde formatlanamaz</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152280" y="152280"/>
            <a:ext cx="88394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66"/>
                </a:solidFill>
                <a:latin typeface="Verdana"/>
              </a:rPr>
              <a:t>WinFS (Windows Future Storage)</a:t>
            </a:r>
            <a:endParaRPr b="0" lang="en-US" sz="3000" spc="-1" strike="noStrike">
              <a:solidFill>
                <a:srgbClr val="ffffff"/>
              </a:solidFill>
              <a:latin typeface="Verdana"/>
            </a:endParaRPr>
          </a:p>
        </p:txBody>
      </p:sp>
      <p:sp>
        <p:nvSpPr>
          <p:cNvPr id="175" name="Text Box 3"/>
          <p:cNvSpPr/>
          <p:nvPr/>
        </p:nvSpPr>
        <p:spPr>
          <a:xfrm>
            <a:off x="152280" y="1192320"/>
            <a:ext cx="87631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Avantajları:</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Arama işlemleri çok kısa sürede yapılacak</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Güvenlik ön planda olacak.</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00:33:16Z</dcterms:created>
  <dc:creator>marin</dc:creator>
  <dc:description/>
  <dc:language>en-US</dc:language>
  <cp:lastModifiedBy>fso</cp:lastModifiedBy>
  <dcterms:modified xsi:type="dcterms:W3CDTF">2012-01-01T12:55:48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